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63F3C02-193B-400C-8334-597E7D24F3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02760" y="4549320"/>
            <a:ext cx="6118200" cy="50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n introduction to RBM, emphasise that there are no absolutes in RBM – rather this is a rough typology to help them navigate – a guide – not a straightjack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columns of information appear in order, from left to right. The presenter introduces the results terminology from top to bottom (impact down to acti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arrows come in. The main message here is that there is a vertical logic of causality flowing between the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yellow column of examples emerge. These examples match the previous slide, so it is an opportunity to clarify again the levels and the caus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“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f – T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 flags appear. Again, emphasise the vertical, causal logic of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ite column emerges to provide the overall focus of change for each level of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column then emerges, emphasising the rough timeframe for levels of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red triangle emerges. Message: that collective accountability for results increases as they move up the chain of results. At the outcome level, no single agency is likely to be able to guarantee a result. Rather, the collective efforts of several agencies and partners will be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– the second level of outcome appears. This is the time to introduce the UN’s approach to RBM which has two levels of Outcome – UNDAF Outcome and contributing CP Outcomes. Point out that the second level of outcome is still an outcome level result (ie institutional/ behavioural; 5 years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 it has a higher level of amb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move to the next slide to show them how these results fit into the Results Matri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EE8C-22C1-474C-A33F-B9C739A2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57D6-ADC4-41FB-B54E-ABF0C4A9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32F-C369-4EC5-A9E7-489D53A7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AAC-B561-4401-9341-A8A636BF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9F3-41BB-4963-AC8F-F113B436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BBA5-4769-49A0-8C58-24CDE8E3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046-F778-4C52-8702-791FD035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8CBF-7000-4802-AD7C-BA0E8CFA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11E5-6E40-4266-9A19-40A142D0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3D7-45D1-47ED-8EE8-4D4493F9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0B0-C196-45FE-918F-6AECDD66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C6FD-7D96-4100-8A99-20CF08AE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CCD5-2B7A-4983-81D4-1ACE27AC4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752480"/>
            <a:ext cx="1524240" cy="4724640"/>
            <a:chOff x="152280" y="1752480"/>
            <a:chExt cx="1524240" cy="4724640"/>
          </a:xfrm>
        </p:grpSpPr>
        <p:sp>
          <p:nvSpPr>
            <p:cNvPr id="49" name=""/>
            <p:cNvSpPr/>
            <p:nvPr/>
          </p:nvSpPr>
          <p:spPr>
            <a:xfrm>
              <a:off x="152280" y="3733920"/>
              <a:ext cx="152424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fecto dir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280" y="17524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mpa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47242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571500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tiv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828800" y="175248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ducci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ó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 de la pobr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733920"/>
            <a:ext cx="23623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000 empresas nuevas y peque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ñas desarrolladas en las provincias más pob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4648320"/>
            <a:ext cx="23623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7 incubadoras de modelo empresarial en provincias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ás 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715000"/>
            <a:ext cx="25146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dquisici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ón de instalaciones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apacitaci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ón de pers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rindar microcréditos pro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762120"/>
            <a:ext cx="15242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762120"/>
            <a:ext cx="2286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m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762120"/>
            <a:ext cx="1523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Enfoque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9907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762120"/>
            <a:ext cx="152388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a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ón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19920" y="1752480"/>
            <a:ext cx="1523880" cy="4724640"/>
            <a:chOff x="6019920" y="1752480"/>
            <a:chExt cx="1523880" cy="4724640"/>
          </a:xfrm>
        </p:grpSpPr>
        <p:sp>
          <p:nvSpPr>
            <p:cNvPr id="63" name=""/>
            <p:cNvSpPr/>
            <p:nvPr/>
          </p:nvSpPr>
          <p:spPr>
            <a:xfrm>
              <a:off x="6019920" y="571500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1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19920" y="47242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19920" y="3733920"/>
              <a:ext cx="1523880" cy="76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17524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-10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525440" y="990720"/>
            <a:ext cx="1846080" cy="5410080"/>
            <a:chOff x="7525440" y="990720"/>
            <a:chExt cx="1846080" cy="5410080"/>
          </a:xfrm>
        </p:grpSpPr>
        <p:sp>
          <p:nvSpPr>
            <p:cNvPr id="68" name=""/>
            <p:cNvSpPr/>
            <p:nvPr/>
          </p:nvSpPr>
          <p:spPr>
            <a:xfrm rot="10800000">
              <a:off x="7655400" y="990720"/>
              <a:ext cx="1369080" cy="5410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9800">
              <a:off x="7869960" y="127764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á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1540600">
              <a:off x="7942320" y="5486400"/>
              <a:ext cx="86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258400">
              <a:off x="7619760" y="3194280"/>
              <a:ext cx="1657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ndici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ón colectiva de cuen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43400" y="1752480"/>
            <a:ext cx="1600200" cy="4038840"/>
            <a:chOff x="4343400" y="1752480"/>
            <a:chExt cx="1600200" cy="4038840"/>
          </a:xfrm>
        </p:grpSpPr>
        <p:sp>
          <p:nvSpPr>
            <p:cNvPr id="73" name=""/>
            <p:cNvSpPr/>
            <p:nvPr/>
          </p:nvSpPr>
          <p:spPr>
            <a:xfrm>
              <a:off x="4343400" y="3733920"/>
              <a:ext cx="15242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Institucional/ comport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4724280"/>
              <a:ext cx="16002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Operacional/ destrezas, habilidades, productos y servic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1752480"/>
              <a:ext cx="15242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 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  <a:ea typeface="굴림"/>
                </a:rPr>
                <a:t>¡Hu</a:t>
              </a:r>
              <a:r>
                <a:rPr b="0" lang="en-GB" sz="2000" spc="-1" strike="noStrike">
                  <a:solidFill>
                    <a:srgbClr val="0000ff"/>
                  </a:solidFill>
                  <a:latin typeface="Arial"/>
                </a:rPr>
                <a:t>mano!</a:t>
              </a: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2280" y="2743200"/>
            <a:ext cx="15242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fecto dir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74320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umento en el empleo y la generaci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ón de ingr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743200"/>
            <a:ext cx="1523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Institucional/ comportamiento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2743200"/>
            <a:ext cx="152388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ñ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59400">
            <a:off x="304920" y="3428640"/>
            <a:ext cx="38088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429000"/>
            <a:ext cx="38124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991400">
            <a:off x="1346040" y="2455560"/>
            <a:ext cx="92880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066400">
            <a:off x="3962880" y="2369880"/>
            <a:ext cx="533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0066400">
            <a:off x="3961080" y="32763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066400">
            <a:off x="3962880" y="434304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20066400">
            <a:off x="3962880" y="53337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991400">
            <a:off x="1346040" y="3522240"/>
            <a:ext cx="92880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991400">
            <a:off x="1338480" y="4551120"/>
            <a:ext cx="103356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991400">
            <a:off x="1303200" y="1536480"/>
            <a:ext cx="97344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1680" y="2434680"/>
            <a:ext cx="1146240" cy="3359520"/>
            <a:chOff x="301680" y="2434680"/>
            <a:chExt cx="1146240" cy="3359520"/>
          </a:xfrm>
        </p:grpSpPr>
        <p:sp>
          <p:nvSpPr>
            <p:cNvPr id="91" name=""/>
            <p:cNvSpPr/>
            <p:nvPr/>
          </p:nvSpPr>
          <p:spPr>
            <a:xfrm rot="10859400">
              <a:off x="304920" y="4419360"/>
              <a:ext cx="38088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59400">
              <a:off x="304920" y="54093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59400">
              <a:off x="304920" y="24375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6680" y="54100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66680" y="4419720"/>
              <a:ext cx="38124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24382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Typology for RBM: Poverty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0:10:13Z</dcterms:created>
  <dc:creator>kayijuka</dc:creator>
  <dc:description/>
  <dc:language>en-US</dc:language>
  <cp:lastModifiedBy>sandrone</cp:lastModifiedBy>
  <dcterms:modified xsi:type="dcterms:W3CDTF">2010-02-23T13:27:50Z</dcterms:modified>
  <cp:revision>6</cp:revision>
  <dc:subject/>
  <dc:title>PowerPoint Presentation</dc:title>
</cp:coreProperties>
</file>